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2165-3781-4634-A7FD-5BDAEBD97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A501-8A71-479F-9971-284AD467B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 launched its Human Element ad campaign.  What is the mess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eople matter, take away stigma of “faceless” large company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28D7-4E16-4A48-82BE-55275A4CD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 to emu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ys mes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utiful imag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kes e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:  does it inspire a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7984-FCDB-4848-BB26-5764BDE1B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ul Phare = artist.  In response to Dow’s Human Element campaign, Mr. Phare created this mask campaign.  It represents the “mask” worn by Dow Chem – disavowing them of their claim to be responsible to humans.  The campaign uses a mask with beautiful imagery over a disturbing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863A-D42B-4535-A9C9-1C9514616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u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trong, clear mes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visually compe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any inspiration for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the finger – blames Dow, does not consider implications for consumers – we demand these products (nobody wants a wormy ap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we do?  Be informed consumers?  Refuse to buy certain types of products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5716-707C-4494-838E-F9E446DB4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o of U2 started this RED campaign to get companies to donate $ to help aids relief in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u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visually inter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ends clear message about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nspires clear action…buy something red, help another p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20AC-3106-4926-85E7-DAE60FC9A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2921-60A5-47F6-9351-59F6BA837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ce Armstrong started this campaign (yellow bracelet developed by Nike) to raise money to help people with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u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visually pleasing &amp; thought prov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inspires action = be strong, fight for life, buy a yellow brace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:  clear message – how do we know it’s for canc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1016-A816-4083-AEAB-E6140ECE3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728-A237-4F33-A1F4-609596AB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2BF-FFC0-4963-864C-0FC0D158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6FD-FA52-453D-98FE-7092AE17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757-B82C-4BF9-8C91-E0013804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C5D-273F-4DD9-B977-369555BE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FAB-7E0C-41F2-9192-BD719E2B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6C1-E851-4D96-82F9-53F69011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DBE-8974-42F3-8825-FFC4F300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621-45B3-4B34-BDC0-5F7BAB9F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DFA-1AEC-4FA3-BF91-B3BED2E5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A62-184C-4C02-983E-13B9D1F4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828-45B9-4836-AAD5-6512FC7E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06E5-1EDA-47E5-B685-1F78ADAB3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Art Campaign</a:t>
            </a:r>
            <a:br>
              <a:rPr sz="4400"/>
            </a:b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sually thoughtfu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ds a clear message about the 12 Principles of Green Chemis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pires people to take a specific ac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rchase products that adhere to the 12 principle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an informed consumer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nking of new ways to do mundane task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tc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watche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klimt.jpg"/>
          <p:cNvPicPr/>
          <p:nvPr/>
        </p:nvPicPr>
        <p:blipFill>
          <a:blip r:embed="rId2"/>
          <a:srcRect l="0" t="6797" r="0" b="6797"/>
          <a:stretch/>
        </p:blipFill>
        <p:spPr>
          <a:xfrm>
            <a:off x="7130880" y="3200400"/>
            <a:ext cx="2013120" cy="173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water drop.jpg"/>
          <p:cNvPicPr/>
          <p:nvPr/>
        </p:nvPicPr>
        <p:blipFill>
          <a:blip r:embed="rId3"/>
          <a:stretch/>
        </p:blipFill>
        <p:spPr>
          <a:xfrm>
            <a:off x="7162920" y="1581120"/>
            <a:ext cx="198108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3d_plastic_abstract.jpg"/>
          <p:cNvPicPr/>
          <p:nvPr/>
        </p:nvPicPr>
        <p:blipFill>
          <a:blip r:embed="rId4"/>
          <a:stretch/>
        </p:blipFill>
        <p:spPr>
          <a:xfrm>
            <a:off x="6400800" y="4800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hem reaction photo"/>
          <p:cNvPicPr/>
          <p:nvPr/>
        </p:nvPicPr>
        <p:blipFill>
          <a:blip r:embed="rId5"/>
          <a:stretch/>
        </p:blipFill>
        <p:spPr>
          <a:xfrm>
            <a:off x="5562720" y="0"/>
            <a:ext cx="16254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dow_human_element_5.jpg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3" descr="dow_human-element-4.jpg"/>
          <p:cNvPicPr/>
          <p:nvPr/>
        </p:nvPicPr>
        <p:blipFill>
          <a:blip r:embed="rId1"/>
          <a:stretch/>
        </p:blipFill>
        <p:spPr>
          <a:xfrm>
            <a:off x="514440" y="595440"/>
            <a:ext cx="811512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" name="Picture 4" descr="mask campaign 1.jpg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3" descr="mask campaign 2.gif"/>
          <p:cNvPicPr/>
          <p:nvPr/>
        </p:nvPicPr>
        <p:blipFill>
          <a:blip r:embed="rId1"/>
          <a:stretch/>
        </p:blipFill>
        <p:spPr>
          <a:xfrm>
            <a:off x="371520" y="457200"/>
            <a:ext cx="831528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9" name="Picture 3" descr="red_campiagn1.jpg"/>
          <p:cNvPicPr/>
          <p:nvPr/>
        </p:nvPicPr>
        <p:blipFill>
          <a:blip r:embed="rId1"/>
          <a:stretch/>
        </p:blipFill>
        <p:spPr>
          <a:xfrm>
            <a:off x="2057400" y="144360"/>
            <a:ext cx="5029200" cy="65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red_campiagn3.jpg"/>
          <p:cNvPicPr/>
          <p:nvPr/>
        </p:nvPicPr>
        <p:blipFill>
          <a:blip r:embed="rId1"/>
          <a:stretch/>
        </p:blipFill>
        <p:spPr>
          <a:xfrm>
            <a:off x="0" y="1676520"/>
            <a:ext cx="5084640" cy="380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d_campiagn4.jpg"/>
          <p:cNvPicPr/>
          <p:nvPr/>
        </p:nvPicPr>
        <p:blipFill>
          <a:blip r:embed="rId2"/>
          <a:stretch/>
        </p:blipFill>
        <p:spPr>
          <a:xfrm>
            <a:off x="4952880" y="1371600"/>
            <a:ext cx="3911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live strong.jpg"/>
          <p:cNvPicPr/>
          <p:nvPr/>
        </p:nvPicPr>
        <p:blipFill>
          <a:blip r:embed="rId1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19:25:24Z</dcterms:created>
  <dc:creator>BC</dc:creator>
  <dc:description/>
  <dc:language>en-US</dc:language>
  <cp:lastModifiedBy>BC</cp:lastModifiedBy>
  <dcterms:modified xsi:type="dcterms:W3CDTF">2010-05-30T20:24:03Z</dcterms:modified>
  <cp:revision>7</cp:revision>
  <dc:subject/>
  <dc:title>Art Campaign Examples</dc:title>
</cp:coreProperties>
</file>